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D6D4-C214-4B1B-B719-D5D54C0E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468D-1524-463D-B624-1472E93C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9589-8082-4082-9D42-4952B08D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012E-1AA2-4991-A9DF-7B530A04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B9CC-3C68-47AE-B75A-47C1C6E6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2A37-13B9-4E70-B24B-2CC938C6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8EE4-B56A-4D26-94AA-41966223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1342-3ED9-4D79-9E74-0EB10B27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C0E7-C678-4F19-8A62-D2D0A729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7E80-332F-4D7E-B70B-9DE05DD7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21C5-0746-40B6-A8D8-FB51F476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F3A-EF0F-44AF-866C-FA854829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FD64-01D3-4DA8-99EA-247DC670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E4FA-AE67-4E6F-AFE8-1DD626EA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5747-FC88-4B1C-9443-44F61841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E4BA-086F-4E39-9062-EAA7B310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B3DE-B3F9-4762-9101-9E6E7A14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15F-C945-4826-938A-FD4D401D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537-133C-4C57-AB41-1EDF4DB4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856-1D95-4E4B-862D-1EDCE37D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098-C200-42D0-8F62-E523461D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175-3789-428F-93AE-BDF1F130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A4C-9853-412B-A1B5-8AEAFB5F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4738-4394-4A6B-B962-0CF394E2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B569-8D8E-4487-BC6B-FA371FCCE4B2}" type="slidenum">
              <a:rPr b="0" lang="hu-H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3F5A-9BFF-4B8E-8FF3-91119E6063E2}" type="slidenum">
              <a:rPr b="0" lang="hu-HU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4920" y="404640"/>
            <a:ext cx="779328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V E Z E T Ő K É P Z Ő</a:t>
            </a:r>
            <a:br>
              <a:rPr sz="32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elsőoktatási Kollégiumok Országos Szövetség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80920" y="2278080"/>
            <a:ext cx="7847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ájékoztat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z Egyetemi- és Főiskola hallgatókat érintő, kollégiumi vonatkozású törvényi szabályozásokró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7128000" y="2744640"/>
            <a:ext cx="1728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5079960"/>
            <a:ext cx="327492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logh Józs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llégiumigazga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80920" y="4437000"/>
            <a:ext cx="7847280" cy="2232000"/>
            <a:chOff x="880920" y="4437000"/>
            <a:chExt cx="7847280" cy="22320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880920" y="4437000"/>
              <a:ext cx="18846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059280" y="6166080"/>
              <a:ext cx="367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6877080" y="5505480"/>
              <a:ext cx="1851120" cy="973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920" y="404280"/>
            <a:ext cx="7416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79/2006. (IV. 5.) Kormányrendelet,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elsőoktatásról szóló 2005. évi CXXXIX. törvény egyes rendelkezéseinek végrehajtásáró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640" y="2276280"/>
            <a:ext cx="77724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észleteiben meghatározza a Felsőoktatási Törvény egyes paragrafus pontjainak végrehajtására vonatkozó teendőket, illetve további speciális helyzetekre és eltérésekre ad útmutató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ormányrendelet 2. számú melléklete tartalmazza: „A diákotthon (kollégium) működésének minimális (kötelező) feltételei” felsorolá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372/2007. (XII. 23.) Kormányrendelet, mely a felsőoktatás területét érintő egyes kormányrendeletek módosításáról szól, több helyen is módosította a végrehajtási utasítá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ollégiumokat (diákotthonokat) érintően, a fentebb hivatkozott 2. számú melléklet vonatkozásában a következőt írja: „a rendelet hatálybalépésekor működő intézményekre 2010. december 31. után kell teljes körűen alkalmazn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920" y="188640"/>
            <a:ext cx="7416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diákotthon működésének minimális (kötelező) feltételei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9/2006. (IV. 5.) Kormányrendelet 2. számú mellékle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21686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Tárgyi feltételként biztosítand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érőhelyenként 1 ágy, 1 személyes használatú tanulóasztal, szék, ruhásszekrény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érőhelyenként paplan, párn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országos településrendezési és építési követelményekről szóló 253/1997. (XII. 20.) Korm. rendelet (OTÉK) szerinti fürdőhelyiség, illemhely, felvonó, lift, parkoló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őzési és ételmelegítési lehetőség biztosítása: legalább 25 férőhelyenként 1 darab 1000 watt teljesítményű főzőlap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űté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eleg víz biztosítása, férőhelyenként legalább 80 liter/nap mennyiséggel számolv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ízellátás biztosítása férőhelyenként legalább 140 liter/nap mennyiséggel számolv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920" y="188640"/>
            <a:ext cx="7416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diákotthon működésének minimális (kötelező) feltételei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9/2006. (IV. 5.) Kormányrendelet 2. számú mellékle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2168280"/>
            <a:ext cx="777240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Tárgyi feltételként biztosítand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osási és vasalási lehetőség biztosítása 100 főre legalább 1 darab 5 kg ruha mosóteljesítményű automata mosógép és legalább egy vasalóállvány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érőhelyenként minimum 7 m2 nettó lakóterüle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gyidejűleg a férőhelyek 5%-ának megfelelő számú tanulóhelyet kell biztosítani tanulószobában, úgy kialakítva, hogy egy tanulóhelyre legalább 2 m2 alapterület, asztal és székhasználat legyen biztosítv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szobákban a hűtőgépek, hajszárítók és a 200 watt teljesítmény alatti elektromos teljesítményű nem hőfejlesztő eszközök (TV, videó, kávé- és teafőző, villanyborotva, szórakoztató elektronikai eszközök, kis fogyasztású háztartási eszközök) ellátására alkalmas elektromos hálóza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érőhelyenként 25 liter hűtőtérfogatú hűtőgépek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920" y="188640"/>
            <a:ext cx="7416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diákotthon működésének minimális (kötelező) feltételei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9/2006. (IV. 5.) Kormányrendelet 2. számú mellékle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2239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árgyi feltételként biztosítand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önnyen tisztítható padlóburkola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zemélyi feltételek biztosítás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énzügyi feltételek tekintetében be kell mutat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öt év költségtervét folyó évi áron számolva, a bevétel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galapozottságát igazoló dokumentumokkal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a szükséges fenntartói források igazolását, a hitelgaranciá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költségvetésnek legalább a következő kiadásokat kell fedezni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vi két alkalommal a kollégium, diákotthon nagytakarításának biztosítás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özös használatú, továbbá a fürdő- és illemhelyiségek napi takarítás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920" y="188640"/>
            <a:ext cx="7416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diákotthon működésének minimális (kötelező) feltételei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9/2006. (IV. 5.) Kormányrendelet 2. számú mellékle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640" y="252864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költségvetésnek legalább a következő kiadásokat kell fedezni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vi egy alkalommal az egészségügyi, fürdő- és illemhelyiségek higiéniai festése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vente legalább a lakóhelyiségek negyedének higiéniai festése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vente legalább a közös helyiségek negyedének higiéniai festése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vente legalább a férőhelyek tizedének felújítását (ágy, tanulóasztal, szekrény, paplan, párna kicserélésével) lehetővé tevő tartalék képzése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özüzemi költségek finanszírozás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zükség szerint, de évente legalább egy alkalommal az épület rovar- és kártevő-mentesíté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920" y="188640"/>
            <a:ext cx="7416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diákotthon működésének minimális (kötelező) feltételei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9/2006. (IV. 5.) Kormányrendelet 2. számú mellékle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640" y="2781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zemélyi feltételek tekintetében biztosítand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ákotthon vezető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dagógiai szakképzettséggel rendelkező, teljes munkaidőben foglalkoztatott munkatár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 órás ügyele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 órás portaszolgálat, ami kiváltható beléptető rendszerrel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űtés üzemelteté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212400"/>
            <a:ext cx="779292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51/2007. (III. 26.) Kormányrendelet,</a:t>
            </a:r>
            <a:br>
              <a:rPr sz="36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felsőoktatásban résztvevő hallgatók juttatásairól és az általuk fizetendő egyes térítésekrő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2313000"/>
            <a:ext cx="80596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A felsőoktatási intézmény a hallgatói juttatásokhoz rendelkezésre áll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forrásokat az alábbi jogcímeken használhatja fel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)  teljesítmény alapú ösztöndíj kifizetésé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a)  tanulmányi ösztöndíj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b)  köztársasági ösztöndíj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c)  intézményi szakmai, tudományos és közéleti ösztöndíj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zociális alapú ösztöndíj kifizetésé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a)  rendszeres szociális ösztöndíj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b)  rendkívüli szociális ösztöndíj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c)  a Bursa Hungarica Felsőoktatási Önkormányzati Ösztöndíj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intézményi része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d)  a külföldi hallgatók miniszteri ösztöndíj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)  alaptámogatá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212400"/>
            <a:ext cx="779292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51/2007. (III. 26.) Kormányrendelet,</a:t>
            </a:r>
            <a:br>
              <a:rPr sz="36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felsőoktatásban résztvevő hallgatók juttatásairól és az általuk fizetendő egyes térítésekrő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2241720"/>
            <a:ext cx="80596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A felsőoktatási intézmény a hallgatói juttatásokhoz rendelkezésre áll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forrásokat az alábbi jogcímeken használhatja fel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)  doktorandusz ösztöndíj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d)  egyéb, a felsőoktatási intézmény térítési és juttatási   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zabályzatában meghatározott ösztöndíj kifizetésére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)  az intézményi működési költségek finanszírozásá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a)  a jegyzet-előállítás támogatására, elektronikus tankönyvek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ananyagok és a felkészüléshez szükséges elektronikus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eszközök beszerzése, valamint a fogyatékossággal élő  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hallgatók tanulmányait segítő eszközök beszerzésére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b)  a kulturális tevékenység, valamint a sporttevékenység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támogatás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c)  kollégium fenntartása, működtetése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d)  kollégiumi férőhely bérlése, kollégiumi felújítá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e)  a hallgatói önkormányzat működésének támogatása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280" y="212400"/>
            <a:ext cx="779292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51/2007. (III. 26.) Kormányrendelet,</a:t>
            </a:r>
            <a:br>
              <a:rPr sz="36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felsőoktatásban résztvevő hallgatók juttatásairól és az általuk fizetendő egyes térítésekrő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805968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0" algn="just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A kollégiumi ellátás igénybevételével és a lakhatási támogatáss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2080" indent="0" algn="just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kapcsolatos feltétel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2080" indent="0" algn="just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(1) A kollégiumi elhelyezés pályázat útján nyerhető el. A pályázati kérelmekről a térítési és juttatási szabályzatban meghatározott pontozásos rendszer alapján kell dönten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2080" indent="0" algn="just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(2) A pontrendszer megismerését a pályázati kérelmek benyújtása előtt lehetővé kell tenn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2080" indent="0" algn="just">
              <a:lnSpc>
                <a:spcPct val="90000"/>
              </a:lnSpc>
              <a:buNone/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(3) A pontrendszerben szempontként figyelembe kell venni a hallgató szociális helyzetét, tanulmányi teljesítményét, a hallgatói közösségért végzett munkáját, képzésének munkarendjét, a 4. § (4) bekezdése szerint mentesülést, valamint ha a hallgatót a felsőoktatási törvény 52. §-ának (2) bekezdése alapján a kollégiumi jelentkezés elbírálásánál előnyben kell részesíteni, akkor az előnyben részesítés felsőoktatási törvényben meghatározott feltételének fennállását 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212400"/>
            <a:ext cx="779292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51/2007. (III. 26.) Kormányrendelet,</a:t>
            </a:r>
            <a:br>
              <a:rPr sz="36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felsőoktatásban résztvevő hallgatók juttatásairól és az általuk fizetendő egyes térítésekrő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2168280"/>
            <a:ext cx="80596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just">
              <a:lnSpc>
                <a:spcPct val="90000"/>
              </a:lnSpc>
              <a:buNone/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kollégiumi ellátás igénybevételével és a lakhatási támogatáss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5680" indent="0" algn="just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apcsolatos feltétel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5680" indent="0" algn="just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 A szakkollégiumként működő kollégiumok és diákotthonok a (3) bekezdéstől eltérő pontrendszert is alkalmazhatn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5680" indent="0" algn="just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) A lakhatási feltételek támogatására a szociális támogatás keretében kerül s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5680" indent="0" algn="just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talás, 4. § (4) bekezdé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5680" indent="0" algn="just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ollégiumi díj befizetésének kötelezettsége alól szociális helyzete miatt mentesülhet az a hallgató, aki hátrányos helyzetű, aki árva, aki családfenntartó, vagy akinek gyámsága nagykorúsága miatt szűnt meg. Az intézmény a kollégiumi munkát végző hallgató számára a kollégiumi díjból kedvezményt, mentességet biztosíthat a térítési és juttatási szabályzatában meghatározottak szerin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25360"/>
            <a:ext cx="77929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rszágos hatáskörű jogszabályok (törvények, kormányrendeletek, stb.)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805968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5. évi CXXXIX. Törvény a felsőoktatásró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9/2006. (IV. 5.) Kormányrendelet, a felsőoktatásról szóló 2005. évi CXXXIX. törvény egyes rendelkezéseinek végrehajtásáró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/2007. (III. 26.) Kormányrendelet, a felsőoktatásban részt vevő hallgatók juttatásairól és az általuk fizetendő egyes térítésekrő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349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72/2007. (XII. 23.) Kormányrendelet, a felsőoktatás területét érintő egyes kormányrendeletek módosításáró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212400"/>
            <a:ext cx="779292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51/2007. (III. 26.) Kormányrendelet,</a:t>
            </a:r>
            <a:br>
              <a:rPr sz="36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felsőoktatásban résztvevő hallgatók juttatásairól és az általuk fizetendő egyes térítésekrő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2313000"/>
            <a:ext cx="80596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just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A hallgató szociális helyzete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5680" indent="0" algn="just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(1) A hallgató szociális helyzetének megítélésekor figyelembe kell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en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5680" indent="0" algn="just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)  az egy lakásban életvitelszerűen együtt lakó, ott bejelentett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agy tartózkodási hellyel rendelkezők számát és jövedelmi  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   helyzeté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5680" indent="0" algn="just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)  a képzési hely és a lakóhely közötti távolságot, az utazás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    időtartamát és költségé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5680" indent="0" algn="just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)  amennyiben a hallgató tanulmányai során nem a Tbj. szerinti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   közös háztartásban él, ennek költsége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5680" indent="0" algn="just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d)  a fogyatékos hallgatónak mekkora összeget kell fordítania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   különleges eszközök beszerzésére és fenntartására, speciális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   utazási szükségleteire, valamint személyi segítő, illetve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   jelnyelvi tolmács igénybevételére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280" y="212400"/>
            <a:ext cx="779292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51/2007. (III. 26.) Kormányrendelet,</a:t>
            </a:r>
            <a:br>
              <a:rPr sz="36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felsőoktatásban résztvevő hallgatók juttatásairól és az általuk fizetendő egyes térítésekrő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2097000"/>
            <a:ext cx="80596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hallgató szociális helyz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)  a hallgató vagy a vele közös háztartásban élő közel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ozzátartozója egészségi állapota miatt rendszeres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elmerülő egészségügyi kiadása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)  a hallgatóval közös háztartásban élő eltartottak számát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ülönös tekintettel a vele együtt eltartott gyermekek számár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)  az ápolásra szoruló hozzátartozó gondozásával járó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öltségeke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A jövedelemszámításkor a havonta rendszeresen mérhető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jövedelmeknél az utolsó három hónap átlagát, egyé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jövedelmeknél pedig az utolsó egy év tizenkettedét kell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igyelembe venni. A hallgató kérésére a bizonyított jövőben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jövedelemváltozást is figyelembe kell venn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A hallgató szociális helyzetének megállapításának részle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zabályait az intézmény térítési és juttatási szabályzata határozza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280" y="212400"/>
            <a:ext cx="779292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51/2007. (III. 26.) Kormányrendelet,</a:t>
            </a:r>
            <a:br>
              <a:rPr sz="36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felsőoktatásban résztvevő hallgatók juttatásairól és az általuk fizetendő egyes térítésekrő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8059680" cy="42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z állami fenntartásban működő kollégiumok komfortfokozat szerin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0720" indent="0" algn="just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sztályba sorolásának feltétele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0720"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ollégiumi férőhelyeket komfortfokozat szerint négyfokozatú skálán kell besoroln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0720"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omfortfokozat szerinti besorolás során elsődlegesen az épület állapotát, a vizesblokkokkal való ellátottságát és az egy helyiségben elhelyezett hallgatók számát kell figyelembe venni. Az intézményben alkalmazott további feltételekről az intézményi térítési és juttatási szabályzat rendelkezi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0720"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 egyes férőhelyek besorolásáról a felsőoktatási intézmény vezetője és a hallgatói önkormányzat közötti, a tanév kezdetét megelőző május 30-ig megkötendő megállapodás rendelkezik azzal, hogy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0720"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ak az I. kategóriába sorolható az a kollégiumi férőhely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ynél a vizesblokk közös használatú, egy helyiségben 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g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ál több fő kap elhelyezést és az épület 10 éven belü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m vol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lújítv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212400"/>
            <a:ext cx="779292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51/2007. (III. 26.) Kormányrendelet,</a:t>
            </a:r>
            <a:br>
              <a:rPr sz="36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felsőoktatásban résztvevő hallgatók juttatásairól és az általuk fizetendő egyes térítésekrő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8059680" cy="42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1360"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z állami fenntartásban működő kollégiumok komfortfokozat szerin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1360" indent="0" algn="just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sztályba sorolásának feltétele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1360" indent="0" algn="just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 a II. kategóriába sorolható be a kollégiumi férőhely, ha eg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elyiségben 3 főnél kevesebb kap elhelyezés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1360" indent="0" algn="just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III. kategóriába sorolható be a kollégiumi férőhely, amennyib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zobánként vagy kétszobánként komplett vizesblokk van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iépítv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y helyiségben 3 főnél kevesebb kap elhelyezés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1360" indent="0" algn="just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IV. kategóriába sorolható be a kollégiumi férőhely, amennyib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zobánként vagy kétszobánként komplett vizesblokk v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iépítv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y helyiségben 3 főnél kevesebb kap elhelyezést és az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épület 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ven belül volt felújít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1360" indent="0" algn="just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 (1)-(3) bekezdés alkalmazása során felújítás minden olyan beruházás, amely a kollégium összértékéhez képest meghatározó költségráfordítás során a kollégiumi lakhatási körülményeket javítja, kivéve a kollégium állagmegőrzését célzó ráfordítás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212400"/>
            <a:ext cx="779292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51/2007. (III. 26.) Kormányrendelet,</a:t>
            </a:r>
            <a:br>
              <a:rPr sz="36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felsőoktatásban résztvevő hallgatók juttatásairól és az általuk fizetendő egyes térítésekrő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2168640"/>
            <a:ext cx="80596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Az állami fenntartásban működő kollégiumokban kérhető térítési dí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legmagasabb össze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intézmény térítési és juttatási szabályzatában meghatározott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ollégiumi díj havi összege az államilag támogatott képzésben részt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evő hallgatók és az államilag támogatott doktori képzésben részt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evő hallgatók esetében hallgatónként nem lehet magasabb, mint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ollégiumi normatíva éves összegének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I. kategóriába sorolt férőhely esetén   8 %-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 II. kategóriába sorolt férőhely esetén 10 %-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III. kategóriába sorolt férőhely esetén 12 %-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IV. kategóriába sorolt férőhely esetén 15 %-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45072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kollégiumi alapszolgáltatásként legalább a jogszabályban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ollégium, illetve diákotthon működésének engedélyezéséhez előírt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eltételek folyamatos biztosítását és működtetését, továbbá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zemélyi számítógépek, szórakoztató elektronikai eszközök,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alamint a kisfogyasztású háztartási eszközök üzemeltetési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lehetőségét kell érten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51/2007. (III. 26.) Kormányrendelet,</a:t>
            </a:r>
            <a:br>
              <a:rPr sz="36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felsőoktatásban résztvevő hallgatók juttatásairól és az általuk fizetendő egyes térítésekrő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71640" y="2528640"/>
            <a:ext cx="777240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ézményi megállapodá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zabályozás értelmében: „a kollégiumi térítési díjat a kollégiumi alapszolgáltatásért és elhelyezésért, valamint a Kollégium által nyújtott alapszolgáltatásokért kell fizetni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ollégiumok komfortfokozatba sorolását, valamint az ezzel szorosan összefüggő kollégiumi térítési díj meghatározását, az Intézményi Tanács (Szenátus – Rektor) és a Hallgatói Önkormányzat (HÖK – Elnök) által aláírt megállapodásban kell rögzíten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endelet előírja, hogy minden tárgyév május 30-ig, a következő tanévre meg kell újítani, és alá kell írni ezen megállapodá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4920" y="367920"/>
            <a:ext cx="7793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V E Z E T Ő K É P Z Ő</a:t>
            </a:r>
            <a:br>
              <a:rPr sz="32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elsőoktatási Kollégiumok Országos Szövetség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6000" y="2322360"/>
            <a:ext cx="73087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ÖSZÖNÖM  MEGTISZTELŐ FIGYELMÜK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vábbi jó munkát kívánok a vezetőképző résztvevőine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7128000" y="2744640"/>
            <a:ext cx="1728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5079960"/>
            <a:ext cx="327492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logh Józs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llégiumigazga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880920" y="4437000"/>
            <a:ext cx="7847280" cy="2232000"/>
            <a:chOff x="880920" y="4437000"/>
            <a:chExt cx="7847280" cy="223200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880920" y="4437000"/>
              <a:ext cx="18846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059280" y="6166080"/>
              <a:ext cx="367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6877080" y="5505480"/>
              <a:ext cx="1851120" cy="973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85840"/>
            <a:ext cx="779292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Felsőoktatási Intézmény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elyi Szintű Szabályzatai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640" y="2528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zervezeti és Működési Szabályzat (SZMSZ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zervezeti és Működési Rend (SZM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glalkoztatási Követelményrendszer (FK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llgatói Követelményrendszer (HK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llégium Szervezeti és Működési Szabályzata (KSZMSZ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elsőoktatási Intézmény Hallgatói részére nyújtható, és az általuk fizetendő díjak és térítések szabályz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elsőoktatási Intézmény Hallgatói Önkormányzatának Alapszabály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elsőoktatási  Törvény  (FTV)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005. évi CXXXIX. törvén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640" y="2276640"/>
            <a:ext cx="777240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pvetően meghatározza a Felsőoktatási Intézmények létesítésének és megszűnésének feltételeit, és működésének alapelve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álja a Felsőoktatási Intézmények szervezeti felépítésének kereteit, szervezeti egységeit, és a képzési rendsze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ghatározza a hallgatói- és kollégiumi jogviszony keletkezésének és megszűnésének feltételeit, az ezzel járó egyéni jogokat és kötelességek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dezi az államilag támogatott és költségtérítéses képzés feltétele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ghatározza a tanulmányi kötelezettségek teljesítését, a tehetséggondozás és a doktori képzés feltétele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elsőoktatási  Törvény  (FTV)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005. évi CXXXIX. törvén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419200"/>
            <a:ext cx="77724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ögzíti a hallgatói és intézményi fegyelmi, illetve kártérítési felelősségek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álja a hallgatói közösségek képviseleti rendszeré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ögzíti a felsőoktatásban alkalmazottak körét, a foglalkoztatás szabályait, jogaikat és kötelességeik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ghatározza a munkavállalók egyéni és kollektív érdekérvényesítési lehetősége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ögzíti a felsőoktatással kapcsolatos állami hatáskörök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delkezik a külföldi felsőoktatási intézmények magyarországi, illetve a magyar felsőoktatási intézmények külföldön történő működésérő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47592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elsőoktatási  Törvény  (FTV)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005. évi CXXXIX. törvén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640" y="25272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írja a jogorvoslati lehetőségek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ghatározza a magyar állampolgárok külföldön, illetve a nem magyar állampolgárok Magyarországon történő tanulmánya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ögzíti a Felsőoktatási Intézmények finanszírozási kérdésének kereteit, az ingyenesen, illetve térítési díj ellenében igénybe vehető szolgáltatások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talmazza a nem állami fenntartású felsőoktatási intézményekre vonatkozó szabályok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ülön rendelkezéseket tartalmaz a speciális oktatást folytató felsőoktatási intézmények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920" y="47592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TV  52. §  Kollégiumi Elhelyezés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005. évi CXXXIX. Törvény a Felsőoktatásró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234792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ollégiumi elhelyezését kérheti mindenki, aki felvételi kérelmet nyújtott be a felsőoktatási intézménybe, illetve aki hallgatói jogviszonyban áll, függetlenül attól, hogy milyen képzési szakaszra, milyen tanulmányi rend szerinti képzésre kéri a felvételét, illetve létesített hallgatói jogviszony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ollégiumi jelentkezések elbírálásánál előnyben kell részesíteni azt a hátrányos helyzetű hallgatót, aki kollégiumi elhelyezés hiányában felsőfokú tanulmányait nem tudja megkezdeni, illetve folytatn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elvételi ügyekben - ha e törvény másként nem rendelkezik - a kollégiumi bizottság dö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ollégiumi felvétellel kollégiumi tagsági jogviszony jön lét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920" y="47592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TV  52. §  Kollégiumi Elhelyezés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005. évi CXXXIX. Törvény a Felsőoktatásró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640" y="234612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ollégiumi elhelyezésért térítési díjat kell fizetni. A térítési díjat a lakhatási feltételek biztosításáért és az ahhoz kapcsolódó, a rendeltetésszerű használatot biztosító alapszolgáltatásokért kell fizetni. Az alapszolgáltatások összegét a kollégium komfortfokozata alapján kell meghatározni. A kollégium további kiegészítő szolgáltatásokat nyújthat, melyek igénybevételéről a hallgató dö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ollégiumi felvételkor meg kell határozni a térítési díj összegét, valamint hogy a kollégium milyen kiegészítő szolgáltatásokat nyújt, és ezekért a hallgató milyen fizetési kötelezettséggel tartozik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elsőoktatási intézményben a kollégiumi hallgatók érdekképviseletét a hallgatói önkormányzat látja 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920" y="47592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TV  52. §  Kollégiumi Elhelyezés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005. évi CXXXIX. Törvény a Felsőoktatásró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640" y="195264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szervezeti és működési szabályzat határozza meg a kollégiumi tagsági jogviszonyból származó hallgatói jogokat és kötelezettségeket, a kollégium működésének a rendjét, az általa nyújtott kiegészítő szolgáltatások igénybevételének feltételeit, a kollégiumi együttélés szabályait, a felvételi kérelmek elbírálásának rendjé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állami fenntartásban működő kollégium esetében az elhelyezés keretében biztosított lakhatási feltételekért és az ahhoz kapcsolódó kötelező szolgáltatásokért (a továbbiakban: alapszolgáltatás) kérhető térítési díj legmagasabb összegét, a kollégium komfortfokozat szerinti osztályba sorolásának feltételeit, az alapszolgáltatások körét a Kormány határozza me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e §-ban foglaltakat - a (2) és (8)-(9) bekezdésben meghatározottak kivételével - alkalmazni kell a diákotthonra is, ha az a felsőoktatási intézménnyel kötött megállapodás alapján vesz részt a lakhatási feltételek biztosításában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8:13:45Z</dcterms:created>
  <dc:creator>Balogh József</dc:creator>
  <dc:description/>
  <dc:language>en-US</dc:language>
  <cp:lastModifiedBy>Bánki Kollégium</cp:lastModifiedBy>
  <dcterms:modified xsi:type="dcterms:W3CDTF">2009-03-27T08:02:29Z</dcterms:modified>
  <cp:revision>1270</cp:revision>
  <dc:subject/>
  <dc:title>BMF Kollégium</dc:title>
</cp:coreProperties>
</file>